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F5CC6-1084-40FC-8137-A4C2C439A5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5BD73-8E8C-41D0-9F68-1C2F34E433B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F6854-407D-42DB-8B97-132FD0EB6359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29-09E1-49E7-A132-91C4B5F3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997-4626-47B7-B87F-7AF4FB0A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0A29-2052-4246-A65A-909FDED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6ED20-CA3B-4C78-BA27-9135695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34DC-9C49-4474-AAB5-60933D07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7276-423E-4EA0-9FE9-FE99DE3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FFA82-3873-4141-8695-243904F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2907-D8C2-402D-9BF5-B8DDDAC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20016-AE87-4FDC-B688-14D835B8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7551-87B8-4BB3-A849-4F1F8FF9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D298B-6BD9-45CC-97AE-29D09AD9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5139B-2A41-4DD0-9E0A-8FCB79F9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E86-4784-4CF7-83B3-4B54DB74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8B5CF-3DDA-43AD-A554-1AFC502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C3C4-AF1C-4CAA-941E-984E739F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71DEE-9867-413D-96BB-800F3A47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C74B8-E2D5-4CA0-8CED-3FBFEAC3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D2E0D-C5ED-49BA-8D86-0ABEC208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8EE82-B5DE-400A-916F-8780AAA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9635E-5ACE-4B5B-8CA0-92A6640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5F224-AF6E-41BF-B6E8-ABC3A6B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1588-9175-4D01-BCC1-AA919E3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295E1-1B67-4F57-BC85-AF5E48C6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170-C216-4ABD-BDC9-27EBBC03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767E2-DD9F-4CC2-8A2C-35337786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F06B-C5F3-4EA4-BF3A-8507ED68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7518-2EE0-4CF1-97FB-A331021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82E5F-B7F0-428C-BB1E-5C366D1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43157-53C2-4916-A186-4548CD2A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4F506-6A5D-46B1-A45C-8CC6CFE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3B4FE-4A11-4908-96B3-6B795F3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8D91-218C-4E18-9994-C770C28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A5800-A2B4-432C-B875-9D2A15B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CCC54-1FEA-40AA-9503-B65BFD3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86C6C-113F-48F9-9F2C-EB8A9A3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B9E5-431D-4004-B424-01C9C3D3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013D9-7769-4B31-896E-80B208C0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F20EA-48D2-4805-8C8C-CB3F0FAB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E4598-EF14-458B-B86B-ADB5714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BD1F-CE81-45F3-9EDD-B81AA290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148C-0E47-4B81-9853-364B529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ADE4-8852-4260-B11B-890C017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9207-9A00-4988-8850-FC730CB6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618C-0447-4EB9-A037-EB3D8A4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AB533-E0F0-46BD-BED5-09E377D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1326C-1FFA-4ECE-9921-CABBFCD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E49FD-A783-45B0-8D82-F089B88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888EB-269B-44A0-9D62-1A10F289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57246-9B0F-4EC6-AB64-876D2879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140AC-0FE1-4B15-8F64-148A0042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3816D-30D4-4D7C-A74A-28D98DC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415FC-55F5-45E6-8FAE-66C934CA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CB7CE-35AD-461D-9048-04E5F7E2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8BEF0-6785-4B7A-9BDB-6C20942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B8496-6DF5-4DB2-A284-90D4A1D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D7A8-442B-44C8-B72E-DEBEE64F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B86CE-4143-4F13-B1DA-7938418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B63F6-D299-4115-AFCE-BA08FA58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3F792-82C3-4C0F-84C7-7F54D01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B6F7C-C45C-4ECE-9219-7B74383F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BC6AC-843D-4D0C-804A-E6B98C8B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3D8E8-80ED-4131-91FC-33767AC6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B1FB3-6235-4FFF-ACCB-8C1EF9F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D8748-AFAA-4A7D-ADF6-6EF7789D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1AB95-4FCC-439B-BF00-2B958255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CFB47-83BC-4E5C-8D72-D316518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92730-4861-4281-8C29-DF1F99A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10267-1F46-4FE6-B414-E5F2FB1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8AE24-4EB9-4B9A-AEE5-09B935F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CDE41-0575-45C6-97C5-A99B6D9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6EC54-840C-4AC7-A90A-D9773A28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91F95-63F6-496C-AE9A-B0E76C4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1B885-16D8-405D-BC98-9E05A15C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9CCDD-26ED-4113-A491-3B40B074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EB84F-0627-4BD6-A156-6BD6A53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6CA9F-33D9-43EA-9E85-CC654B10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5314D-6BEF-4230-A8C5-75F29D0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942D4-018C-4679-9B77-1AEE2FF4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81CA9-5935-436A-8916-42FCA35C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85626-07AB-4981-BF0E-8BA1172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02557-413F-40BE-8402-9591466C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42353-A73F-4FCE-B708-A4C8F03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FB031-AEEA-4871-BE37-E44FA350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AABB4-A248-406B-85D4-6DB70CC2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02397-80AC-40A4-9FD3-13C8B6AE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6D951-2E39-4D58-849C-85BD4C9C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8F304-3A01-495B-9BA4-57C4ADF4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AE637-20BA-4724-AF72-F086804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26E5C-94DD-4751-9E13-BE471EF6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35450-2E51-49E6-9FD7-C093EE6A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EE6FD-34BA-4B28-B1D2-22358395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B2AC8-E8FB-4210-94A7-7A9ED27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0C66A-440D-497F-A866-AF455DF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5D031-BC1D-4EBC-B3AB-9E2D5F9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ACEBD-E2AE-46FC-BDBF-F15FD267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F3848-76D7-478E-B591-2E652C0E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ECAE6-27CD-4ACB-9842-525BB3C0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5F4D3-964A-4F72-9396-AB27D0CB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E7FC3-033D-4AC2-ABB7-4313943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91CE4-157D-4864-96EE-E2E38C86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08EF9-A3A6-4D80-B77D-B26E339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DF6F7-A925-44B9-89CC-5DF0B4B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1FD34-C516-4C3C-9BE1-DD577F2B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F5D1B-820D-4E04-839E-51BB0F6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1E4-F9AD-406B-AE0C-081F5428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08F10-CDA0-4616-9F99-372B37B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1F2CD-EB02-4BD2-A023-123D7D3E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75003-84EB-495D-9914-10E00F6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0CBA02-C5CE-48DD-9160-2E71F40A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A71FF-4417-4136-8CB6-DE419705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48AC6-FE07-4B1F-BF79-B9D0DD87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23171-A9A0-4F5F-A7E6-B09D40A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D8F5D-B19B-45AC-9246-30DD9E97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8E4B1E-4135-4461-A8C3-E2FB08E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B5BE4-EE53-4142-B858-A03EF98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2A3BC-A074-4210-9121-332BA50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E2D336-5B07-479F-8088-D522DF5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1AC43-3806-43BD-9F9E-F6C8BBF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24F98-08CB-4A11-8D00-96F2BF1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653D0-66A8-4C16-8538-4FD0D0E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2194A-68D8-4454-B51D-E7460134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EFB68-0FE3-4BD2-AE2B-A6320831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4FE-7504-484B-909E-A04EB4B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0E9-B5B1-4F9F-A16F-B7958B4F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42162-2487-455E-856B-7575E9A3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9C8-9BB8-4911-883A-9B5612C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03A81-DAE5-475C-9B59-C1B61454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7C54-DCBE-43D1-9CF2-EA18CEBB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F990-0795-4D8B-83F4-8B3C7F0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F12D-FC0D-4EC9-9931-22525BB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B11F-BD0D-45DE-9B66-80635622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1ACB-C5AE-4112-999D-C10D3405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87E1-E430-4C1B-942F-2021F79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0B8B-E0E1-4B09-9001-6542A2B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4091-256D-4ECE-840A-B8471140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C831-5E08-4C81-951B-2995CDB7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B88-A187-4809-85A5-96D90C28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163D-BA72-4057-A797-BB47661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360AC-D7A3-4A38-8CB6-088D9A02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1D5E2-1E0F-4389-BFE3-E2F5F89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C9A0-5944-43F2-9C83-41A9D00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9CAEA-5558-4F1D-8A2A-AABB1347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0F10-7DE6-4450-965F-981CAEFC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403C-570C-4F84-80FE-87E412C2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CBA4-0DE0-4259-8A1E-12105E8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8373-D3D6-45CA-8D02-E9C8926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1F03-0F04-4D83-B809-A029623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D2C-BBFF-443A-83DE-5B08E1E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D361-4B43-4922-AB30-96132C8F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0BC4-42E2-44B8-932C-D14E20F8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0BB38-7604-4418-9739-C18B4C61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E5BC-63ED-4BB1-B0F9-7ACA8DF5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29B8-11BC-42C4-ADF4-E0E6BE96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1685-C5FC-4D41-A2B5-A575570C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D180-546E-4D63-A237-951BEDE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1B74-9CE0-40B1-94F8-A0D9D62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891DD-E43B-4CFD-9A12-E16F3ED3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DDF4-38F0-4E4B-AF1F-2615F7F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0BC-F73B-40D5-BD1D-B480F93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53B11-950F-4711-88D4-5347D86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BBA63-E1A1-4F57-9BE6-8C220BD1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A51E-6147-485A-ADB1-A0E3A44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E67AA-8875-4004-895C-80550693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EC2A6-A034-4B5A-B5D1-29E82172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9DBD-5FCB-4817-8087-820E36FE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FF9D-1F83-4EAF-BB76-20AC281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65C6-85C4-467B-B950-660F08E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B3B6-60E2-4EFB-943E-061E5C3C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DF73-A2A2-4D37-8251-73EB692B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7DB-1817-4213-B40A-CEDBCE9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49A4-5D20-41E4-8F16-85A6D117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027A-CB03-485B-9F89-A678613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A7E5-4E4F-41C9-A928-4F40F07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B2BDC-51EB-45B8-8302-879111F8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D6A6D-6E78-4F0D-B6BA-B6424C78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863B0-3025-4C0E-AE64-1880F2AB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2581-89B9-41D6-AC7E-71E5DA39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935E-353C-4427-921A-F9202CFF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B1C8B-8168-450F-863B-3F917100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D63F1-A89B-47CD-A5A1-F6C820D2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8368-1896-4111-8ED8-4786624D86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157-EF89-4D13-8311-422C8FA1AE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2A1-F308-489B-900D-8CAC9F4F3B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A01B-0C4B-426B-9D99-273DA757E3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5AE3-E43E-48A3-9182-665B14622A3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0CD-1B17-4D1D-BF55-3AA1F00DEC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3354-222F-4CEB-BD80-2E091161EA8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BAB4-F1FD-416B-909B-2C5DA5F3B1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00B-E92D-444D-AD21-E6CDA63159C6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071C-09B5-4A4A-A7B8-6EABAFB45E5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7FF-765F-40C9-BC42-E869BB87396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E94-BC93-47C4-808C-310158853C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CDC-CCD6-4A78-BC00-1EB80C41362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"/>
          <p:cNvPicPr/>
          <p:nvPr/>
        </p:nvPicPr>
        <p:blipFill>
          <a:blip r:embed="rId2"/>
          <a:stretch/>
        </p:blipFill>
        <p:spPr>
          <a:xfrm>
            <a:off x="8318520" y="6286680"/>
            <a:ext cx="857160" cy="571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845E-4BFD-494A-840F-447D4DB35D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304-0D68-4E9D-BC4F-216D6D9563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AE4C-AF2B-4123-835B-AE63EB85EE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7E22-5BE5-4433-864F-F2FB694D658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385F-DDF4-4B54-94A8-9896441ACC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5897-6C27-4AFC-A2C4-79A5D131E6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191-73E5-4A7A-AB31-EBA8B2FC19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4B6-25A2-4225-96F9-A8D31BDCCA3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0112-CDEB-4709-A974-8E482F7AA6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DA3-13BB-4C25-9B6A-01899422B1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7FCB-3F99-4B03-94D9-C4499A50F8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80C3-1E3C-458B-AACD-F4A481F426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E39F-2810-48B5-AF44-F08637C0E9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705-9423-46FC-981B-583814E3C6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5C4-0C6A-4795-A302-1D87CDD2EF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548E-20A5-4F1C-B334-AF746FEC1D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08E-70E2-485A-AD45-70511C9112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F29-5F0D-4B51-8860-DC8DBF367E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40D7-D1F2-49F2-ACB7-5A8F03AE89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5551-CBD0-45A5-91A3-C00CC4FC30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3995-EDE7-43E5-91D8-55D59FCA76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915C-AA6F-4936-8243-DBDFAB8E7F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8ABC-CD08-481F-AAFE-F546CB45BC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9C5-2A24-443F-8141-67FF5173AC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4D3-D155-4D92-87C1-387C593499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F887-B793-4798-BE1D-CD1378BE91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2EB-4149-4F1D-B423-B523F3C7AF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0C1-9466-4628-834C-0D76986367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CD7-EB9E-4FA9-83DC-DFE7F98651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616-2EC7-4E08-B247-8124A9589F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32A-9C13-4E52-8E47-571799A197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6ED7-5862-4823-8C7C-8C7860C837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527-96F6-4144-B99D-6A7F1C7F5D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11D-176E-4CF2-BDC2-AED2B84892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8078-A669-4F34-B41A-6D140551EB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448-BAE5-40D2-96A2-76DB5D1E1B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6C0-C64C-42A1-973D-D2A9596C2F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062-6401-4BB2-8E71-820A956475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C05-7DAA-409E-AC32-3E9C58432B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89AA-24AE-415B-80AF-03652586DD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95D-0900-49C7-9708-7859049721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03E-7D3E-497F-9C32-9579335D1C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18CD-2293-486F-9580-39B2A54ED6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0BB7-C94F-4138-81A3-254F5D42BC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CDB-7E30-45D2-9D01-CCDEB0F723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A4F-98C3-45D2-BA1A-4AD99CB5C8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D09B-A726-4960-8D08-6049319F94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9C92-0F0A-4686-AF8E-A1437FF09C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2823-715B-4817-8AB5-63B7CFB260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70C7-148D-45CC-A3E8-88A0CCACCF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1D27-95A1-4C80-8264-071C3ED1BB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DD6-497C-4369-AD5B-C573EBABC9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C9E5-C0E2-4E52-A5B8-F855375B7F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326-8233-49BD-A32D-F0C0DC86A2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539-41C1-4E18-BB7D-5CA2F7048D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3F33-1E8C-4154-A086-E9F3E91746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B47-DB27-415B-BEEE-B3E50781E4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EB8-6231-496E-96BB-4B1BBA31D2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DE8C-BFC2-45E8-B57E-536522FA56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9-08-06T10:47:20Z</dcterms:modified>
  <cp:revision>122</cp:revision>
  <dc:subject/>
  <dc:title>Aims and Objectives</dc:title>
</cp:coreProperties>
</file>